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142-AA51-4AA3-A789-4665481A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10179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0640" y="4163400"/>
            <a:ext cx="10179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594-270E-4C70-AEFB-D40F8E24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064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6668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121-B38B-48EA-974A-7321C71B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2240" y="22860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134200" y="22860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0640" y="41634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92240" y="41634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134200" y="41634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743-5F5A-4818-A64B-ACA0B01B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E946-1D19-4435-A112-9B3292BB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AEEF-9D40-4EEA-AC03-47C2C36E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AC55-6874-4E78-8220-804AA460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7D15-6775-4F9C-923C-6A8618FE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17CE-1E85-4EA9-9C94-4F4F0BED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50640" y="382320"/>
            <a:ext cx="1017900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5591-CF86-4A9E-9C72-DDBB0C00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5064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6397-7BD9-4D5C-8DB4-8BDC8B95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C0BF-F154-4628-99A5-FC839CCF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6668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5AC6-E080-4A80-BCCC-C4F56D26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50640" y="4163400"/>
            <a:ext cx="10179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7386-4DC7-43C3-AB18-AE5CF9C0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10179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50640" y="4163400"/>
            <a:ext cx="10179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89A1-3D33-4B59-A29F-C6762EDB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5064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46668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2831-E77D-462A-B9E2-8BB856EB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2240" y="22860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134200" y="22860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50640" y="41634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92240" y="41634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134200" y="41634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0AEE-C6E4-4529-BC71-DFCE0A69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633AA-0BD5-47DD-914F-C7252D7F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3EF3F-E049-4497-B552-22463E77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296D3-F30B-44B6-9E1E-463FDA39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6F6F9-F478-462D-996A-455D99F9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9AE61-1E08-4C92-BF82-A9483A1F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D51-C5C7-429E-8770-234812FB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50640" y="382320"/>
            <a:ext cx="1017900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5B2FA-79AC-44DD-B2CD-707FF45B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5064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DEBC3-1E37-4AC4-B2BC-2EDDEC12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6668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21DC9-C082-4930-9F2A-E19F8813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50640" y="4163400"/>
            <a:ext cx="10179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A0B6C-590A-48C1-B6BA-ADE8F72A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10179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50640" y="4163400"/>
            <a:ext cx="10179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66E96-3AC3-43D1-AD3D-2B45E163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5064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46668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2F1E-D262-48D7-A61A-20BEFFEB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2240" y="22860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34200" y="22860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50640" y="41634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692240" y="41634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8134200" y="41634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A987E-1376-4850-9D7F-FF96057F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163D5-A30F-4358-8512-238F4A5B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8C9FF-CC2A-48D4-95FA-27CC2438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738A9-855C-4DFC-8FB8-64728A08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3D0-AEAF-419B-BD3D-8A5CA885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DEB86-0BCC-4F15-AE02-7D302FF7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B0B58-AA67-45C2-BA38-A031E8FB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250640" y="382320"/>
            <a:ext cx="1017900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E9EC0-C0FF-4044-B69A-40299B71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25064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C7186-5963-4EE7-BF2F-5D9A4823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46668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D3CB6-C365-4CB4-A541-E0EE5BFA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50640" y="4163400"/>
            <a:ext cx="10179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A7EE2-6379-4B14-A88E-20CD5B2A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10179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250640" y="4163400"/>
            <a:ext cx="10179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855BB-E526-4392-96F2-576712B2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5064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46668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F5FE8-8D81-4B3A-8AC6-3415614B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2240" y="22860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134200" y="22860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250640" y="41634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692240" y="41634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134200" y="41634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81BE5-8819-4CDC-B0F1-D7BF44A3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7AB09-28E0-47F2-9D1F-4E648517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337-8B0B-4A15-945B-619C1A2B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78EE0-89D2-4265-93F8-2EC80DB8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37ED6-68FC-4115-9CA7-A3193631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8E85A-CEA4-45F5-9E2A-F4BD443E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7CC42-ADA9-4ED0-9FA9-5AF4C749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250640" y="382320"/>
            <a:ext cx="1017900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058FD-06A3-4A76-8F02-02D130C2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25064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74EC7-A021-4DF2-9C91-BFE1EF65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6668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B93C9-D256-488B-BE72-56399D6D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50640" y="4163400"/>
            <a:ext cx="10179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07A74-7D4F-4564-A125-C34C9D4F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10179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250640" y="4163400"/>
            <a:ext cx="10179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775F7-37D1-4A64-A852-C36F2927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25064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46668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76EA4-874C-440F-82D3-6B0E2852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0640" y="382320"/>
            <a:ext cx="1017900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F40-BF43-43E4-8CA7-5363C627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2240" y="22860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134200" y="22860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1250640" y="41634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692240" y="41634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8134200" y="4163400"/>
            <a:ext cx="3277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E2BC8-2853-4432-84C5-E2DBC4CC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064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AD5-E66E-4A35-A1A7-EE1C6A64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66680" y="41634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26C-959F-4DC3-B4FA-E2F59ECF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064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66680" y="2286000"/>
            <a:ext cx="4967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0640" y="4163400"/>
            <a:ext cx="10179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ABB-6D6E-4B85-AB1E-62F03EC1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50640" y="6374880"/>
            <a:ext cx="233028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75240"/>
            <a:ext cx="411480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75240"/>
            <a:ext cx="28195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AFB59-AF3F-4E32-874E-3B16C6BBAC9C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0" y="0"/>
            <a:ext cx="885960" cy="6858000"/>
          </a:xfrm>
          <a:custGeom>
            <a:avLst/>
            <a:gdLst/>
            <a:ahLst/>
            <a:rect l="l" t="t" r="r" b="b"/>
            <a:pathLst>
              <a:path w="558" h="4320">
                <a:moveTo>
                  <a:pt x="0" y="0"/>
                </a:moveTo>
                <a:lnTo>
                  <a:pt x="447" y="0"/>
                </a:lnTo>
                <a:lnTo>
                  <a:pt x="448" y="43"/>
                </a:lnTo>
                <a:lnTo>
                  <a:pt x="453" y="81"/>
                </a:lnTo>
                <a:lnTo>
                  <a:pt x="460" y="114"/>
                </a:lnTo>
                <a:lnTo>
                  <a:pt x="469" y="143"/>
                </a:lnTo>
                <a:lnTo>
                  <a:pt x="479" y="169"/>
                </a:lnTo>
                <a:lnTo>
                  <a:pt x="491" y="192"/>
                </a:lnTo>
                <a:lnTo>
                  <a:pt x="503" y="216"/>
                </a:lnTo>
                <a:lnTo>
                  <a:pt x="515" y="240"/>
                </a:lnTo>
                <a:lnTo>
                  <a:pt x="525" y="263"/>
                </a:lnTo>
                <a:lnTo>
                  <a:pt x="535" y="289"/>
                </a:lnTo>
                <a:lnTo>
                  <a:pt x="545" y="318"/>
                </a:lnTo>
                <a:lnTo>
                  <a:pt x="552" y="351"/>
                </a:lnTo>
                <a:lnTo>
                  <a:pt x="556" y="389"/>
                </a:lnTo>
                <a:lnTo>
                  <a:pt x="558" y="432"/>
                </a:lnTo>
                <a:lnTo>
                  <a:pt x="556" y="475"/>
                </a:lnTo>
                <a:lnTo>
                  <a:pt x="552" y="513"/>
                </a:lnTo>
                <a:lnTo>
                  <a:pt x="545" y="546"/>
                </a:lnTo>
                <a:lnTo>
                  <a:pt x="535" y="575"/>
                </a:lnTo>
                <a:lnTo>
                  <a:pt x="525" y="601"/>
                </a:lnTo>
                <a:lnTo>
                  <a:pt x="515" y="624"/>
                </a:lnTo>
                <a:lnTo>
                  <a:pt x="503" y="648"/>
                </a:lnTo>
                <a:lnTo>
                  <a:pt x="491" y="672"/>
                </a:lnTo>
                <a:lnTo>
                  <a:pt x="479" y="695"/>
                </a:lnTo>
                <a:lnTo>
                  <a:pt x="469" y="721"/>
                </a:lnTo>
                <a:lnTo>
                  <a:pt x="460" y="750"/>
                </a:lnTo>
                <a:lnTo>
                  <a:pt x="453" y="783"/>
                </a:lnTo>
                <a:lnTo>
                  <a:pt x="448" y="821"/>
                </a:lnTo>
                <a:lnTo>
                  <a:pt x="447" y="864"/>
                </a:lnTo>
                <a:lnTo>
                  <a:pt x="448" y="907"/>
                </a:lnTo>
                <a:lnTo>
                  <a:pt x="453" y="945"/>
                </a:lnTo>
                <a:lnTo>
                  <a:pt x="460" y="978"/>
                </a:lnTo>
                <a:lnTo>
                  <a:pt x="469" y="1007"/>
                </a:lnTo>
                <a:lnTo>
                  <a:pt x="479" y="1033"/>
                </a:lnTo>
                <a:lnTo>
                  <a:pt x="491" y="1056"/>
                </a:lnTo>
                <a:lnTo>
                  <a:pt x="503" y="1080"/>
                </a:lnTo>
                <a:lnTo>
                  <a:pt x="515" y="1104"/>
                </a:lnTo>
                <a:lnTo>
                  <a:pt x="525" y="1127"/>
                </a:lnTo>
                <a:lnTo>
                  <a:pt x="535" y="1153"/>
                </a:lnTo>
                <a:lnTo>
                  <a:pt x="545" y="1182"/>
                </a:lnTo>
                <a:lnTo>
                  <a:pt x="552" y="1215"/>
                </a:lnTo>
                <a:lnTo>
                  <a:pt x="556" y="1253"/>
                </a:lnTo>
                <a:lnTo>
                  <a:pt x="558" y="1296"/>
                </a:lnTo>
                <a:lnTo>
                  <a:pt x="556" y="1339"/>
                </a:lnTo>
                <a:lnTo>
                  <a:pt x="552" y="1377"/>
                </a:lnTo>
                <a:lnTo>
                  <a:pt x="545" y="1410"/>
                </a:lnTo>
                <a:lnTo>
                  <a:pt x="535" y="1439"/>
                </a:lnTo>
                <a:lnTo>
                  <a:pt x="525" y="1465"/>
                </a:lnTo>
                <a:lnTo>
                  <a:pt x="515" y="1488"/>
                </a:lnTo>
                <a:lnTo>
                  <a:pt x="503" y="1512"/>
                </a:lnTo>
                <a:lnTo>
                  <a:pt x="491" y="1536"/>
                </a:lnTo>
                <a:lnTo>
                  <a:pt x="479" y="1559"/>
                </a:lnTo>
                <a:lnTo>
                  <a:pt x="469" y="1585"/>
                </a:lnTo>
                <a:lnTo>
                  <a:pt x="460" y="1614"/>
                </a:lnTo>
                <a:lnTo>
                  <a:pt x="453" y="1647"/>
                </a:lnTo>
                <a:lnTo>
                  <a:pt x="448" y="1685"/>
                </a:lnTo>
                <a:lnTo>
                  <a:pt x="447" y="1728"/>
                </a:lnTo>
                <a:lnTo>
                  <a:pt x="448" y="1771"/>
                </a:lnTo>
                <a:lnTo>
                  <a:pt x="453" y="1809"/>
                </a:lnTo>
                <a:lnTo>
                  <a:pt x="460" y="1842"/>
                </a:lnTo>
                <a:lnTo>
                  <a:pt x="469" y="1871"/>
                </a:lnTo>
                <a:lnTo>
                  <a:pt x="479" y="1897"/>
                </a:lnTo>
                <a:lnTo>
                  <a:pt x="491" y="1920"/>
                </a:lnTo>
                <a:lnTo>
                  <a:pt x="503" y="1944"/>
                </a:lnTo>
                <a:lnTo>
                  <a:pt x="515" y="1968"/>
                </a:lnTo>
                <a:lnTo>
                  <a:pt x="525" y="1991"/>
                </a:lnTo>
                <a:lnTo>
                  <a:pt x="535" y="2017"/>
                </a:lnTo>
                <a:lnTo>
                  <a:pt x="545" y="2046"/>
                </a:lnTo>
                <a:lnTo>
                  <a:pt x="552" y="2079"/>
                </a:lnTo>
                <a:lnTo>
                  <a:pt x="556" y="2117"/>
                </a:lnTo>
                <a:lnTo>
                  <a:pt x="558" y="2159"/>
                </a:lnTo>
                <a:lnTo>
                  <a:pt x="556" y="2203"/>
                </a:lnTo>
                <a:lnTo>
                  <a:pt x="552" y="2241"/>
                </a:lnTo>
                <a:lnTo>
                  <a:pt x="545" y="2274"/>
                </a:lnTo>
                <a:lnTo>
                  <a:pt x="535" y="2303"/>
                </a:lnTo>
                <a:lnTo>
                  <a:pt x="525" y="2329"/>
                </a:lnTo>
                <a:lnTo>
                  <a:pt x="515" y="2352"/>
                </a:lnTo>
                <a:lnTo>
                  <a:pt x="503" y="2376"/>
                </a:lnTo>
                <a:lnTo>
                  <a:pt x="491" y="2400"/>
                </a:lnTo>
                <a:lnTo>
                  <a:pt x="479" y="2423"/>
                </a:lnTo>
                <a:lnTo>
                  <a:pt x="469" y="2449"/>
                </a:lnTo>
                <a:lnTo>
                  <a:pt x="460" y="2478"/>
                </a:lnTo>
                <a:lnTo>
                  <a:pt x="453" y="2511"/>
                </a:lnTo>
                <a:lnTo>
                  <a:pt x="448" y="2549"/>
                </a:lnTo>
                <a:lnTo>
                  <a:pt x="447" y="2592"/>
                </a:lnTo>
                <a:lnTo>
                  <a:pt x="448" y="2635"/>
                </a:lnTo>
                <a:lnTo>
                  <a:pt x="453" y="2673"/>
                </a:lnTo>
                <a:lnTo>
                  <a:pt x="460" y="2706"/>
                </a:lnTo>
                <a:lnTo>
                  <a:pt x="469" y="2735"/>
                </a:lnTo>
                <a:lnTo>
                  <a:pt x="479" y="2761"/>
                </a:lnTo>
                <a:lnTo>
                  <a:pt x="491" y="2784"/>
                </a:lnTo>
                <a:lnTo>
                  <a:pt x="515" y="2832"/>
                </a:lnTo>
                <a:lnTo>
                  <a:pt x="525" y="2855"/>
                </a:lnTo>
                <a:lnTo>
                  <a:pt x="535" y="2881"/>
                </a:lnTo>
                <a:lnTo>
                  <a:pt x="545" y="2910"/>
                </a:lnTo>
                <a:lnTo>
                  <a:pt x="552" y="2943"/>
                </a:lnTo>
                <a:lnTo>
                  <a:pt x="556" y="2981"/>
                </a:lnTo>
                <a:lnTo>
                  <a:pt x="558" y="3024"/>
                </a:lnTo>
                <a:lnTo>
                  <a:pt x="556" y="3067"/>
                </a:lnTo>
                <a:lnTo>
                  <a:pt x="552" y="3105"/>
                </a:lnTo>
                <a:lnTo>
                  <a:pt x="545" y="3138"/>
                </a:lnTo>
                <a:lnTo>
                  <a:pt x="535" y="3167"/>
                </a:lnTo>
                <a:lnTo>
                  <a:pt x="525" y="3193"/>
                </a:lnTo>
                <a:lnTo>
                  <a:pt x="515" y="3216"/>
                </a:lnTo>
                <a:lnTo>
                  <a:pt x="503" y="3240"/>
                </a:lnTo>
                <a:lnTo>
                  <a:pt x="491" y="3264"/>
                </a:lnTo>
                <a:lnTo>
                  <a:pt x="479" y="3287"/>
                </a:lnTo>
                <a:lnTo>
                  <a:pt x="469" y="3313"/>
                </a:lnTo>
                <a:lnTo>
                  <a:pt x="460" y="3342"/>
                </a:lnTo>
                <a:lnTo>
                  <a:pt x="453" y="3375"/>
                </a:lnTo>
                <a:lnTo>
                  <a:pt x="448" y="3413"/>
                </a:lnTo>
                <a:lnTo>
                  <a:pt x="447" y="3456"/>
                </a:lnTo>
                <a:lnTo>
                  <a:pt x="448" y="3499"/>
                </a:lnTo>
                <a:lnTo>
                  <a:pt x="453" y="3537"/>
                </a:lnTo>
                <a:lnTo>
                  <a:pt x="460" y="3570"/>
                </a:lnTo>
                <a:lnTo>
                  <a:pt x="469" y="3599"/>
                </a:lnTo>
                <a:lnTo>
                  <a:pt x="479" y="3625"/>
                </a:lnTo>
                <a:lnTo>
                  <a:pt x="491" y="3648"/>
                </a:lnTo>
                <a:lnTo>
                  <a:pt x="503" y="3672"/>
                </a:lnTo>
                <a:lnTo>
                  <a:pt x="515" y="3696"/>
                </a:lnTo>
                <a:lnTo>
                  <a:pt x="525" y="3719"/>
                </a:lnTo>
                <a:lnTo>
                  <a:pt x="535" y="3745"/>
                </a:lnTo>
                <a:lnTo>
                  <a:pt x="545" y="3774"/>
                </a:lnTo>
                <a:lnTo>
                  <a:pt x="552" y="3807"/>
                </a:lnTo>
                <a:lnTo>
                  <a:pt x="556" y="3845"/>
                </a:lnTo>
                <a:lnTo>
                  <a:pt x="558" y="3888"/>
                </a:lnTo>
                <a:lnTo>
                  <a:pt x="556" y="3931"/>
                </a:lnTo>
                <a:lnTo>
                  <a:pt x="552" y="3969"/>
                </a:lnTo>
                <a:lnTo>
                  <a:pt x="545" y="4002"/>
                </a:lnTo>
                <a:lnTo>
                  <a:pt x="535" y="4031"/>
                </a:lnTo>
                <a:lnTo>
                  <a:pt x="525" y="4057"/>
                </a:lnTo>
                <a:lnTo>
                  <a:pt x="515" y="4080"/>
                </a:lnTo>
                <a:lnTo>
                  <a:pt x="503" y="4104"/>
                </a:lnTo>
                <a:lnTo>
                  <a:pt x="491" y="4128"/>
                </a:lnTo>
                <a:lnTo>
                  <a:pt x="479" y="4151"/>
                </a:lnTo>
                <a:lnTo>
                  <a:pt x="469" y="4177"/>
                </a:lnTo>
                <a:lnTo>
                  <a:pt x="460" y="4206"/>
                </a:lnTo>
                <a:lnTo>
                  <a:pt x="453" y="4239"/>
                </a:lnTo>
                <a:lnTo>
                  <a:pt x="448" y="4277"/>
                </a:lnTo>
                <a:lnTo>
                  <a:pt x="447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11907720" y="0"/>
            <a:ext cx="28440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3557520" y="630360"/>
            <a:ext cx="523548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0"/>
            <a:ext cx="28404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77840" y="6374880"/>
            <a:ext cx="23306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5e0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179960" y="6375240"/>
            <a:ext cx="411480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067320" y="6375240"/>
            <a:ext cx="23288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E8471-A3E1-4D2D-A7F0-930AD674DC55}" type="slidenum">
              <a:rPr b="0" lang="en-US" sz="12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8"/>
          <p:cNvGrpSpPr/>
          <p:nvPr/>
        </p:nvGrpSpPr>
        <p:grpSpPr>
          <a:xfrm>
            <a:off x="0" y="0"/>
            <a:ext cx="2814480" cy="6858000"/>
            <a:chOff x="0" y="0"/>
            <a:chExt cx="2814480" cy="6858000"/>
          </a:xfrm>
        </p:grpSpPr>
        <p:sp>
          <p:nvSpPr>
            <p:cNvPr id="87" name="Freeform 6"/>
            <p:cNvSpPr/>
            <p:nvPr/>
          </p:nvSpPr>
          <p:spPr>
            <a:xfrm>
              <a:off x="0" y="0"/>
              <a:ext cx="281448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>
              <a:off x="874440" y="0"/>
              <a:ext cx="164628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236760" y="6374880"/>
            <a:ext cx="14940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3f3f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5278320" y="6375240"/>
            <a:ext cx="411480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9942480" y="6375240"/>
            <a:ext cx="14875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FF1E9-E8EF-4E19-A5E3-8A96577E11A5}" type="slidenum">
              <a:rPr b="0" lang="en-US" sz="12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11"/>
          <p:cNvSpPr/>
          <p:nvPr/>
        </p:nvSpPr>
        <p:spPr>
          <a:xfrm>
            <a:off x="7389720" y="0"/>
            <a:ext cx="480240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0" y="0"/>
            <a:ext cx="28404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764640" y="6374880"/>
            <a:ext cx="12337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103120" y="6375240"/>
            <a:ext cx="348300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5691240" y="6375240"/>
            <a:ext cx="1231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3D395-B270-43FA-8FB0-C55287DF317B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11"/>
          <p:cNvSpPr/>
          <p:nvPr/>
        </p:nvSpPr>
        <p:spPr>
          <a:xfrm>
            <a:off x="7389720" y="0"/>
            <a:ext cx="480240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0"/>
            <a:ext cx="28404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764640" y="6374880"/>
            <a:ext cx="12337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103120" y="6375240"/>
            <a:ext cx="348300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5688000" y="6375240"/>
            <a:ext cx="1233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4671B-C198-4BB7-87E7-FB824197AFD7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7480" y="1098360"/>
            <a:ext cx="10318680" cy="12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2a1a00"/>
                </a:solidFill>
                <a:latin typeface="Impact"/>
              </a:rPr>
              <a:t>ИЗВЕШТАЈ СУДСКОГ СТОМАТОЛОГА</a:t>
            </a:r>
            <a:endParaRPr b="0" lang="en-US" sz="4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214720" y="5978520"/>
            <a:ext cx="80452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a1a00"/>
              </a:solidFill>
              <a:latin typeface="Gill Sans MT"/>
            </a:endParaRPr>
          </a:p>
        </p:txBody>
      </p:sp>
      <p:pic>
        <p:nvPicPr>
          <p:cNvPr id="218" name="Picture 3" descr="SHERLOCK"/>
          <p:cNvPicPr/>
          <p:nvPr/>
        </p:nvPicPr>
        <p:blipFill>
          <a:blip r:embed="rId1"/>
          <a:stretch/>
        </p:blipFill>
        <p:spPr>
          <a:xfrm>
            <a:off x="4600440" y="2652840"/>
            <a:ext cx="3273480" cy="3951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8075520" y="2982960"/>
            <a:ext cx="411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r Arthur Conan Doyle (1859-1930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udio 5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100" spc="-1" strike="noStrike">
                <a:solidFill>
                  <a:srgbClr val="2a1a00"/>
                </a:solidFill>
                <a:latin typeface="Impact"/>
              </a:rPr>
              <a:t>ТУМАЧЕЊЕ НАЛАЗА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У овом поглављу се тумаче резултати испитивањ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00880" indent="-2008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Задатак стручњака је да тумаче налазе тако да налогодавац може да их разуме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00880" indent="-2008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Фактори које треба такође урачунати јесу количина и и квалитет материјала и учесталост налаза у општој популацији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00880" indent="-2008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Треба продискутовати и о ограничености метода које су коришћене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44" name="Audio 3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100" spc="-1" strike="noStrike">
                <a:solidFill>
                  <a:srgbClr val="2a1a00"/>
                </a:solidFill>
                <a:latin typeface="Impact"/>
              </a:rPr>
              <a:t>ЗАКЉУЧАК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Наводи се кратак резиме задатак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47" name="Audio 3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100" spc="-1" strike="noStrike">
                <a:solidFill>
                  <a:srgbClr val="2a1a00"/>
                </a:solidFill>
                <a:latin typeface="Impact"/>
              </a:rPr>
              <a:t>ДОКАЗНИ МАТЕРИЈАЛ У ВЕШТАЧЕЊИМА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Corbel"/>
              </a:rPr>
              <a:t>РТГ СНИМЦИ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Corbel"/>
              </a:rPr>
              <a:t>КЛИНИЧКЕ ФОТОГРАФИЈЕ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Corbel"/>
              </a:rPr>
              <a:t>ГИПСАНИ МОДЕЛИ ВИЛИЦА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50" name="Audio 3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100" spc="-1" strike="noStrike">
                <a:solidFill>
                  <a:srgbClr val="2a1a00"/>
                </a:solidFill>
                <a:latin typeface="Impact"/>
              </a:rPr>
              <a:t>РТГ СНИМЦИ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50640" y="1390320"/>
            <a:ext cx="1017900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87200" indent="-1872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РТГ снимци су често неопходни да би се поставила тачна дијагноза. Приликом судског поступка или идентификације РТГ снимци су од нарочите важности, с обзиром на то да дају објективнију слику ситуације него што је дају наводи који могу бити преправљени, или бити погрешно интерпретирани од стране стоматолог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187200" indent="-1872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187200" indent="-1872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Један од услова да би РТГ снимци били правно прихваћени јесте да су јасно обележени именом пацијента и датумом када су урађени. Обележавање може бити директно на сликама или на посебним фолијама за монтирање и чување снимака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53" name="Audio 3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352160" y="2286000"/>
            <a:ext cx="798516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Дигитализација РТГ снимака олакшава чување и анализу. 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Тако, РТГ снимак може да поседује пацијент, стоматолог и РТГ кабинет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55" name="Audio 1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030320" y="1455840"/>
            <a:ext cx="10599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Corbel"/>
              </a:rPr>
              <a:t>Никада не треба заборавити чињеницу да је РТГ снимак увек потребно урадити пре екстракције зуба!!!!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На основу РТГ снимка се не поставља индикација за екстракцију зуба (често је довољан преглед), већ се добија информација о могућим патолошким променама, морфологији зуба и суседним анатомским структурама. 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Стоматолог не прави грешку ако не уради РТГ али ако дође до компликација због недостатка информација, има за њих одговорност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57" name="Audio 1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029960" y="1415520"/>
            <a:ext cx="103554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РТГ снимци не морају бити само кључни доказ стручне грешке и неуспеха терапије, већ и кључни доказ успешне терапије и опоравка ткив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Дигитализација РТГ снимка омогућава многе анализе помоћу компјутерског софтвера (имплантологија, ортодонтска терапија, преоперативна анализа)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Најстандарднија улога РТГ снимака је у трауматологији зуба и вилиц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59" name="Audio 1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0640" y="0"/>
            <a:ext cx="1017900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100" spc="-1" strike="noStrike">
                <a:solidFill>
                  <a:srgbClr val="2a1a00"/>
                </a:solidFill>
                <a:latin typeface="Impact"/>
              </a:rPr>
              <a:t>КЛИНИЧКЕ ФОТОГРАФИЈЕ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47720" y="1249200"/>
            <a:ext cx="1120464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rbel"/>
              </a:rPr>
              <a:t>Клиничке фотографије могу бити јако корисне у разговору са пацијентом у току планирања (пре лечења)</a:t>
            </a:r>
            <a:endParaRPr b="0" lang="en-US" sz="2400" spc="-1" strike="noStrike">
              <a:solidFill>
                <a:srgbClr val="595959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rbel"/>
              </a:rPr>
              <a:t>Оне су такође веома битан документ у току судског процеса или идентификације. </a:t>
            </a:r>
            <a:endParaRPr b="0" lang="en-US" sz="2400" spc="-1" strike="noStrike">
              <a:solidFill>
                <a:srgbClr val="595959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rbel"/>
              </a:rPr>
              <a:t>Фотографије су део стоматолошког досијеа (СД) и требало би их чувати, али оне се могу уништити ако су сачуване у електронској форми у СД.</a:t>
            </a:r>
            <a:endParaRPr b="0" lang="en-US" sz="2400" spc="-1" strike="noStrike">
              <a:solidFill>
                <a:srgbClr val="595959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rbel"/>
              </a:rPr>
              <a:t>Фотографије као документ и доказ за урађено и неурађено незаменљива је код ванстандардних оперативних захвата (дефект испуњен вештачком кости, прекривен мембраном и ушивена рана и сл.)</a:t>
            </a:r>
            <a:endParaRPr b="0" lang="en-US" sz="2400" spc="-1" strike="noStrike">
              <a:solidFill>
                <a:srgbClr val="595959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rbel"/>
              </a:rPr>
              <a:t>Неки случајеви чудне патологије могу до краја терапије остати несхваћени. Понекад серија добрих фотографија може послужити да се одгонетне узрочно-последична веза.</a:t>
            </a:r>
            <a:endParaRPr b="0" lang="en-US" sz="24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62" name="Audio 4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287000" y="2286000"/>
            <a:ext cx="967284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Многе стоматолошке ординације имају интраоралне камере, које на једноставан начин показују пацијентима детаље који сами не могу да виде и помажу им да схвате терапију коју предлаже стоматолог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Corbel"/>
              </a:rPr>
              <a:t>Архивирани видео-запис узрока и последице идеалан је доказ у судскомедицинском поступку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64" name="Audio 3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100" spc="-1" strike="noStrike">
                <a:solidFill>
                  <a:srgbClr val="2a1a00"/>
                </a:solidFill>
                <a:latin typeface="Impact"/>
              </a:rPr>
              <a:t>ГИПСАНИ МОДЕЛИ ВИЛИЦА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250640" y="1777680"/>
            <a:ext cx="101790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Сокле или гипсани модели вилица део су СД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194040" indent="-19404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Оне чине тродимензионални тренутак међусобних односа зуба једне вилице, а уз загрижај у воску дају информације о типу и квалитету међувиличних односа и квалитету загрижаја пацијент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194040" indent="-19404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Израдом сокли можемо стећи добру документацију о квалитету рада у области ортодонције, протетике и максилофацијалне хирургије. 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194040" indent="-19404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Оне имају велику улогу и приликом евентуалне идентификације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67" name="Audio 3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312560" y="1249200"/>
            <a:ext cx="10085400" cy="46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rbel"/>
              </a:rPr>
              <a:t>Сви постављени задаци судске стоматологије треба да буду у писменој форми, писани са јасно одређеним циљем.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rbel"/>
              </a:rPr>
              <a:t>Овде наводимо опис извештаја након идентификације, али исти принцип се користи и након одређивања старости или извештаја о испитивању трагова зуба.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22" name="Audio 1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11080" y="657000"/>
            <a:ext cx="11381040" cy="58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Узимањем отисака преко протетског  рада и затечених међувиличних односа (оклузије) може се архивирати затечена ситуација и анализирати могућа грешка а рад уклонити. 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3920" indent="-22392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Уколико су то мобилне надокнаде, оне се остављају на гипсаним моделим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3920" indent="-22392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Другачије поступање се </a:t>
            </a:r>
            <a:r>
              <a:rPr b="1" lang="sr-RS" sz="2800" spc="-1" strike="noStrike">
                <a:solidFill>
                  <a:srgbClr val="ff0000"/>
                </a:solidFill>
                <a:latin typeface="Corbel"/>
              </a:rPr>
              <a:t>на суду може квалификовати као уништавање доказ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3920" indent="-22392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(Чест је случај да стоматолози уклоне претходни протетски рад (који је предмет могућег вештачења) да би пацијенту помогли. Тиме уклањају кључни доказ о квалитету рада и постигнутих међувиличних односа)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69" name="Audio 1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518840" y="1030320"/>
            <a:ext cx="9852120" cy="58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Нове технологије у рендгенској дијагностици све су савршеније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Компјутеризована томографија и магнентна резонанца су основ за онколошко планирање операција максилофацијалне регије. 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За свакодневну стоматолошку праксу ово је тешко приступачно и скупо. 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Међутим </a:t>
            </a:r>
            <a:r>
              <a:rPr b="1" lang="sr-RS" sz="2800" spc="-1" strike="noStrike">
                <a:solidFill>
                  <a:srgbClr val="ff0000"/>
                </a:solidFill>
                <a:latin typeface="Corbel"/>
              </a:rPr>
              <a:t>3Д рендгенско снимање </a:t>
            </a: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све је присутније у свакодневној стоматолошкој пракси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71" name="Audio 1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223640" y="2286000"/>
            <a:ext cx="109681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rbel"/>
              </a:rPr>
              <a:t>Извештај треба сачинити тако да га могу разумети и они који нису стоматолози.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rbel"/>
              </a:rPr>
              <a:t>Ово у пракси значи да стручне и техничке изразе треба објаснити обичним –лаичким језиком</a:t>
            </a:r>
            <a:r>
              <a:rPr b="0" lang="sr-RS" sz="2000" spc="-1" strike="noStrike">
                <a:solidFill>
                  <a:srgbClr val="595959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24" name="Audio 1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991800" y="773280"/>
            <a:ext cx="111999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Методе које су коришћене такође треба да се опишу тако да се могу разумети, тумачити и, ако је неопходно поновити од стране других стручњак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05560" indent="-20556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Извештај о раду треба тако написати да буде јасно ко га је написао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05560" indent="-20556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Он треба да садржи име стручњака (вештака) адресу, телефон и имејл адресу, уколико прималац има потребу да контактира са њим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05560" indent="-20556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Извештај ће бити оперативнији и лакши за употребу уколико је подељен у поглавља, са називима области које се обрађују, чиме се кориснику омогућава брже и ефикасније проналажење неопходних податак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26" name="Audio 1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100" spc="-1" strike="noStrike">
                <a:solidFill>
                  <a:srgbClr val="2a1a00"/>
                </a:solidFill>
                <a:latin typeface="Impact"/>
              </a:rPr>
              <a:t>УВОД ИЗВЕШТАЈА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Задатак је увод извештај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Овде треба јасно навести ко је дао задатак, када и како је задатак дат и шта је налог-задатак извештај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29" name="Audio 3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100" spc="-1" strike="noStrike">
                <a:solidFill>
                  <a:srgbClr val="2a1a00"/>
                </a:solidFill>
                <a:latin typeface="Impact"/>
              </a:rPr>
              <a:t>ОПШТИ ПОДАЦИ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Ово поглавље објашњава основ задатк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У предметима идентификације природно је да се одговори на питања где, када, како и ко је пронашао тело, као и да се наведу околности везане за проналазак тела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32" name="Audio 3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100" spc="-1" strike="noStrike">
                <a:solidFill>
                  <a:srgbClr val="2a1a00"/>
                </a:solidFill>
                <a:latin typeface="Impact"/>
              </a:rPr>
              <a:t>ВЕШТАЧЕЊЕ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Ово поглавље треба да да објашњење о особи која врши вештачење, односно о томе ко, кад, где и како је извршио вештачење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Осим тога, морају се навести методе које су коришћене при анализи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35" name="Audio 3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100" spc="-1" strike="noStrike">
                <a:solidFill>
                  <a:srgbClr val="2a1a00"/>
                </a:solidFill>
                <a:latin typeface="Impact"/>
              </a:rPr>
              <a:t>МАТЕРИЈАЛ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Треба да буде дат детаљан опис материјала. 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Ово нарочито важи за зубе, оралне структуре, вилице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Опис треба да пружи информације о количини материјала и оштећењу услед повреде или природног распадањ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38" name="Audio 3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0640" y="382320"/>
            <a:ext cx="101790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100" spc="-1" strike="noStrike">
                <a:solidFill>
                  <a:srgbClr val="2a1a00"/>
                </a:solidFill>
                <a:latin typeface="Impact"/>
              </a:rPr>
              <a:t>НАЛАЗ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0640" y="2286000"/>
            <a:ext cx="101790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Овде треба да се наведу подаци као што су уобичајени налази, промене </a:t>
            </a:r>
            <a:r>
              <a:rPr b="0" i="1" lang="sr-Latn-RS" sz="2800" spc="-1" strike="noStrike">
                <a:solidFill>
                  <a:srgbClr val="000000"/>
                </a:solidFill>
                <a:latin typeface="Gill Sans MT"/>
              </a:rPr>
              <a:t>post mortem</a:t>
            </a:r>
            <a:r>
              <a:rPr b="0" i="1" lang="sr-RS" sz="2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orbel"/>
              </a:rPr>
              <a:t>посебне карактеристике, зубни низ, повреде и резултати посебних повређивањ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41" name="Audio 3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2T11:57:51Z</dcterms:created>
  <dc:creator>Suzana Matejic</dc:creator>
  <dc:description/>
  <dc:language>en-US</dc:language>
  <cp:lastModifiedBy>Suza</cp:lastModifiedBy>
  <dcterms:modified xsi:type="dcterms:W3CDTF">2021-02-14T23:24:42Z</dcterms:modified>
  <cp:revision>17</cp:revision>
  <dc:subject/>
  <dc:title>Извештај судског стоматолога</dc:title>
</cp:coreProperties>
</file>